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3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ормирование и оперативное хранение дел в делопроизводст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507600"/>
            <a:ext cx="8229600" cy="61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завершения делопроизводственного года выдача сотрудникам отдельных документов из дела не допускается. При необходимости во временное пользование может быть выдано дело целиком. В этом случае составляется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карта-заместите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 которой указыва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мер выданного д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та вы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у выдано де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акой ср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пись в получении и приеме после возвращ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а выдаются во временное пользование сотрудникам организации на срок не более одного меся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общие требования при формировании дел учре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осуществляет контроль за правильным формированием де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каких операций состоит работа по формированию де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листов может быть помещено в дел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специфику систематизации различных групп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.    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0.  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.   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 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0B54-9BF4-4E60-AA11-C72762B2432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06E4-4550-440C-B8C8-B0E041DC951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Дело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588760"/>
            <a:ext cx="8229600" cy="35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вокупность документов или документ, относящихся к одному вопросу или участку деятельности, помещенных в отдельную обложку. (ГОСТ Р51141-9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951360" y="1274760"/>
            <a:ext cx="1241280" cy="1022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ормирование дела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62548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руппирование исполненных документов в дело в соответствии с номенклатурой дел и систематизация документов внутри д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Стрелка вниз 3"/>
          <p:cNvSpPr/>
          <p:nvPr/>
        </p:nvSpPr>
        <p:spPr>
          <a:xfrm>
            <a:off x="3768840" y="1274760"/>
            <a:ext cx="1350720" cy="13874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Требования при формировании дел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19160"/>
            <a:ext cx="8229600" cy="55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помещаются документы, которые по своему содержанию соответствуют заголовку дел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ы постоянного и временного хранения группируются в отдельные дела; Например, следует хранить в различных делах оригиналы и копии документов, годовые и квартальные планы работы и так далее, поскольку эти документы имеют различные сроки хра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ложения к документам, независимо от дат их подписания или утверждения, присоединяют к документам, к которым они относятся; могут составлять отдельный том данного де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включается по одному экземпляру каждого докумен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прещается включать копии и дубликаты. Исключение составляют черновые и дублетные материалы, копии, которые имеют резолюции, визы, пометки, являющиеся дополнением к основному документ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группируются документы одного календарного года.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Исключение составляю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дебных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ичных дел (формируются в течение всего периода работы данного лица в организации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ов ор­ганов представительной власт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угих выборных органов, которые группируются за период их созыв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ов учебных заведений, формирующихся в дела за учебный год и д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.    в дела должны помещаться только исполненные документы, неисполненные подшивать запрещаетс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дела, по которым распределяются документы, должны точно соответствовать номенклатуре де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Работа по формированию дел состоит из следующих операций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9716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ределение исполненных документов по делам в соответствии с номенклатурой дел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оложение документов внутри дел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формление обложки д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последовательности расположения документов в деле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12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хронологическая последовательность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начиная от более ранних по датам документов и кончая более поздними датам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опросны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предполагает размещение документов в деле в логической последовательности решения вопросов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умерационный  признак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группируются однородные документы, имеющие порядковую нумерацию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оминальны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в дела группируются документы одного вида (разновидности): протоколы, приказы, акты и т. д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рреспондентски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для группировки переписк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алфавитная последовательнос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На обложку каждого заведенного дела выносятся следующие сведения: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организаци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структурного подразделения организации, в котором оформилось дело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декс де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олов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ичество листов в дел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ок хранения дела (внизу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головок дела следует формулировать на основе элементов, располагаемых в следующей последовательности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звание документа (приказы, протоколы и т.д.)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именование рода заводимого дела (переписка, документы, дело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втор документа (название организации, подразделения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рреспондент (название организации, которой адресуются и от которой получают документы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прос или краткое содержание документов дела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звание местности (территории), с которой связано содержание документов де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аты (период), к которым относятся документы де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казание на копийность дел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2:11:34Z</dcterms:modified>
  <cp:revision>134</cp:revision>
  <dc:subject/>
  <dc:title>Lecture Template </dc:title>
</cp:coreProperties>
</file>